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6C0-D208-4220-A89D-5212066B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A79-099A-4DFD-A608-E6183357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028-A64F-49E5-BE79-CB0517FA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3A1-B212-486E-A294-79898304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165F-2930-4376-B91D-4F71242E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9373-011F-4631-81FF-1D3B4D21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9BE6-CAF1-4209-8321-57D99416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CABC-C62D-428E-9AB3-88E9CACB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A7FD-3EF1-401D-A9C8-0F655524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C902-D801-4B6A-80C1-53E6518D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48EA-32A1-4981-A908-4D9D2AF5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CD7-DBCB-4930-8DB9-910B84D9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0AB4-870D-4D71-B5D8-61796FFA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56A3-748A-40AE-B061-C2912E65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3B75-8AB1-42A9-9AC6-B4C4CDB5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8948-05C9-4EB3-9329-F5CB4ECB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70F5-F5A6-46FB-AA0B-CA33DAB8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AE0-4AEB-45AA-8A6B-C036DA44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2A4-E499-476C-B350-5ABEA7C5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105-FB5A-4204-9EF4-DCFD756D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1EB-2934-44D2-893F-6558824C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3C96-5F45-4A3D-87B3-805799D8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26A-3338-4FA5-AB11-51B586FB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779-790C-40B9-B70B-8DA273E8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72A3-6CA7-4131-8771-2BF995608A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A5A3-9994-45AA-9C06-75021469E7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4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Interprocess Communication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3, © Addison-Wesley 200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360" y="2895480"/>
            <a:ext cx="19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RBA CDR messag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374840" y="5079960"/>
            <a:ext cx="81532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399320" y="1552680"/>
            <a:ext cx="7304400" cy="3734640"/>
            <a:chOff x="1399320" y="1552680"/>
            <a:chExt cx="7304400" cy="3734640"/>
          </a:xfrm>
        </p:grpSpPr>
        <p:sp>
          <p:nvSpPr>
            <p:cNvPr id="464" name=""/>
            <p:cNvSpPr/>
            <p:nvPr/>
          </p:nvSpPr>
          <p:spPr>
            <a:xfrm>
              <a:off x="1399320" y="5043600"/>
              <a:ext cx="288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e flattened form represents 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54120" y="504360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86640" y="5043600"/>
              <a:ext cx="381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ruct with value: {‘Smith’, ‘London’, 1934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82880" y="2127240"/>
              <a:ext cx="4078080" cy="24606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212200" y="223200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0–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12200" y="256068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4–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10400" y="288756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8–1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09320" y="321624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2–1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09320" y="359100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16–19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06080" y="3941640"/>
              <a:ext cx="563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0-2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09320" y="429408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24–2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07200" y="2184480"/>
              <a:ext cx="145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37360" y="253692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urier New"/>
                </a:rPr>
                <a:t>"Smit"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96040" y="286380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"h___"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04680" y="3216240"/>
              <a:ext cx="29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37360" y="354492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urier New"/>
                </a:rPr>
                <a:t>"Lond"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96040" y="3895560"/>
              <a:ext cx="86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"on__"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00360" y="4246560"/>
              <a:ext cx="579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</a:rPr>
                <a:t>193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72600" y="1576440"/>
              <a:ext cx="831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index i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56400" y="1833480"/>
              <a:ext cx="1684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sequence of byt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88360" y="1833480"/>
              <a:ext cx="689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4 byt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8560" y="1892160"/>
              <a:ext cx="141480" cy="9396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89" y="30"/>
                  </a:moveTo>
                  <a:lnTo>
                    <a:pt x="89" y="59"/>
                  </a:lnTo>
                  <a:lnTo>
                    <a:pt x="0" y="30"/>
                  </a:lnTo>
                  <a:lnTo>
                    <a:pt x="89" y="0"/>
                  </a:lnTo>
                  <a:lnTo>
                    <a:pt x="89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303800" y="1940040"/>
              <a:ext cx="1634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02480" y="1916280"/>
              <a:ext cx="141120" cy="9360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0" y="30"/>
                  </a:moveTo>
                  <a:lnTo>
                    <a:pt x="0" y="0"/>
                  </a:lnTo>
                  <a:lnTo>
                    <a:pt x="89" y="30"/>
                  </a:lnTo>
                  <a:lnTo>
                    <a:pt x="0" y="5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68840" y="1963800"/>
              <a:ext cx="2113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45360" y="1552680"/>
              <a:ext cx="569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notes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27720" y="1785960"/>
              <a:ext cx="170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on representa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8280" y="2162160"/>
              <a:ext cx="147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length of stri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14400" y="2583000"/>
              <a:ext cx="710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Smith’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08280" y="3262320"/>
              <a:ext cx="147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length of stri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14400" y="3614760"/>
              <a:ext cx="89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London’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07200" y="4294080"/>
              <a:ext cx="1358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unsigned lo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82880" y="2502000"/>
              <a:ext cx="4030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82880" y="2830680"/>
              <a:ext cx="4030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30400" y="3159000"/>
              <a:ext cx="40305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30400" y="3533760"/>
              <a:ext cx="4030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30400" y="3860640"/>
              <a:ext cx="40305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06640" y="4189320"/>
              <a:ext cx="40305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44960" y="2151000"/>
              <a:ext cx="1440" cy="2413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4.9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Indication of Java serialized for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09400" y="2320920"/>
            <a:ext cx="9104400" cy="2432520"/>
            <a:chOff x="509400" y="2320920"/>
            <a:chExt cx="9104400" cy="2432520"/>
          </a:xfrm>
        </p:grpSpPr>
        <p:sp>
          <p:nvSpPr>
            <p:cNvPr id="505" name=""/>
            <p:cNvSpPr/>
            <p:nvPr/>
          </p:nvSpPr>
          <p:spPr>
            <a:xfrm>
              <a:off x="1447920" y="4433760"/>
              <a:ext cx="765972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9400" y="4448160"/>
              <a:ext cx="907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he true serialized form contains additional type markers; h0 and h1 are hand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8720" y="2705040"/>
              <a:ext cx="6027840" cy="15066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8720" y="3100320"/>
              <a:ext cx="60040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8720" y="3792600"/>
              <a:ext cx="60040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47920" y="2705040"/>
              <a:ext cx="1440" cy="1482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59200" y="2705040"/>
              <a:ext cx="1800" cy="1482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30400" y="3100320"/>
              <a:ext cx="1800" cy="1087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00280" y="2370240"/>
              <a:ext cx="173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erialized 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7040" y="2741760"/>
              <a:ext cx="695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8840" y="33098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7400" y="3852720"/>
              <a:ext cx="512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9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34440" y="2765520"/>
              <a:ext cx="237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-byte version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43920" y="3284640"/>
              <a:ext cx="77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int y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43560" y="3852720"/>
              <a:ext cx="801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Sm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43160" y="3160800"/>
              <a:ext cx="161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java.lang.St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46400" y="3408480"/>
              <a:ext cx="62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44600" y="3852720"/>
              <a:ext cx="98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 Lond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42080" y="276552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38840" y="3211560"/>
              <a:ext cx="161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java.lang.St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42440" y="3457440"/>
              <a:ext cx="60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ac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42080" y="385272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13320" y="2320920"/>
              <a:ext cx="124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xplan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64760" y="2765520"/>
              <a:ext cx="2849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lass name, version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64400" y="3211560"/>
              <a:ext cx="2724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umber, type and name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98680" y="3457440"/>
              <a:ext cx="192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stance variabl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64400" y="3878280"/>
              <a:ext cx="283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alues of instance 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presentation of a remote object referen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704880" y="2646360"/>
            <a:ext cx="8394840" cy="1074600"/>
            <a:chOff x="704880" y="2646360"/>
            <a:chExt cx="8394840" cy="1074600"/>
          </a:xfrm>
        </p:grpSpPr>
        <p:sp>
          <p:nvSpPr>
            <p:cNvPr id="534" name=""/>
            <p:cNvSpPr/>
            <p:nvPr/>
          </p:nvSpPr>
          <p:spPr>
            <a:xfrm>
              <a:off x="704880" y="3021120"/>
              <a:ext cx="8394840" cy="69984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94000" y="3021120"/>
              <a:ext cx="144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57560" y="3021120"/>
              <a:ext cx="180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46680" y="3021120"/>
              <a:ext cx="180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34360" y="3021120"/>
              <a:ext cx="1440" cy="67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0840" y="3225960"/>
              <a:ext cx="1532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et addr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65000" y="3225960"/>
              <a:ext cx="1186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port numb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69240" y="3225960"/>
              <a:ext cx="429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1880" y="3225960"/>
              <a:ext cx="1386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object numb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64680" y="3105000"/>
              <a:ext cx="1166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face of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64680" y="3346560"/>
              <a:ext cx="1319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remote objec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30120" y="264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87560" y="264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27360" y="264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79840" y="2646360"/>
              <a:ext cx="64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32 bi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quest-reply communi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170760" y="1994040"/>
            <a:ext cx="2977920" cy="3154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70760" y="1994040"/>
            <a:ext cx="3003480" cy="317952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6400" y="1994040"/>
            <a:ext cx="2980080" cy="3154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6400" y="1994040"/>
            <a:ext cx="3005280" cy="317952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331520" y="260820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78200" y="173196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836720" y="17319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7240" y="2244600"/>
            <a:ext cx="2652840" cy="2629080"/>
          </a:xfrm>
          <a:prstGeom prst="ellipse">
            <a:avLst/>
          </a:prstGeom>
          <a:solidFill>
            <a:srgbClr val="ffffff"/>
          </a:solidFill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03720" y="2732040"/>
            <a:ext cx="11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0600" y="355932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a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58000" y="4410000"/>
            <a:ext cx="123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tinu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86240" y="390996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59240" y="418464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70560" y="2270160"/>
            <a:ext cx="2578320" cy="2552760"/>
          </a:xfrm>
          <a:prstGeom prst="ellipse">
            <a:avLst/>
          </a:prstGeom>
          <a:solidFill>
            <a:srgbClr val="ffffff"/>
          </a:solidFill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126200" y="2908440"/>
            <a:ext cx="103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t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34280" y="3533760"/>
            <a:ext cx="71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26360" y="383364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721560" y="2921040"/>
            <a:ext cx="174600" cy="125280"/>
          </a:xfrm>
          <a:custGeom>
            <a:avLst/>
            <a:gdLst/>
            <a:ahLst/>
            <a:rect l="l" t="t" r="r" b="b"/>
            <a:pathLst>
              <a:path w="110" h="79">
                <a:moveTo>
                  <a:pt x="0" y="31"/>
                </a:moveTo>
                <a:lnTo>
                  <a:pt x="0" y="0"/>
                </a:lnTo>
                <a:lnTo>
                  <a:pt x="110" y="47"/>
                </a:lnTo>
                <a:lnTo>
                  <a:pt x="0" y="79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65520" y="2820960"/>
            <a:ext cx="3930480" cy="14940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565360" y="4071960"/>
            <a:ext cx="200160" cy="100080"/>
          </a:xfrm>
          <a:custGeom>
            <a:avLst/>
            <a:gdLst/>
            <a:ahLst/>
            <a:rect l="l" t="t" r="r" b="b"/>
            <a:pathLst>
              <a:path w="126" h="63">
                <a:moveTo>
                  <a:pt x="126" y="32"/>
                </a:moveTo>
                <a:lnTo>
                  <a:pt x="126" y="63"/>
                </a:lnTo>
                <a:lnTo>
                  <a:pt x="0" y="32"/>
                </a:lnTo>
                <a:lnTo>
                  <a:pt x="126" y="0"/>
                </a:lnTo>
                <a:lnTo>
                  <a:pt x="126" y="32"/>
                </a:lnTo>
                <a:close/>
              </a:path>
            </a:pathLst>
          </a:custGeom>
          <a:solidFill>
            <a:srgbClr val="000000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65520" y="4122720"/>
            <a:ext cx="4181400" cy="7452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284720" y="295740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108920" y="3233880"/>
            <a:ext cx="113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62560" y="4135320"/>
            <a:ext cx="96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ndRe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976400" y="3143160"/>
            <a:ext cx="74520" cy="239760"/>
            <a:chOff x="1976400" y="3143160"/>
            <a:chExt cx="74520" cy="239760"/>
          </a:xfrm>
        </p:grpSpPr>
        <p:sp>
          <p:nvSpPr>
            <p:cNvPr id="575" name=""/>
            <p:cNvSpPr/>
            <p:nvPr/>
          </p:nvSpPr>
          <p:spPr>
            <a:xfrm>
              <a:off x="1976400" y="3143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76400" y="33080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1976400" y="3981600"/>
            <a:ext cx="74520" cy="239040"/>
            <a:chOff x="1976400" y="3981600"/>
            <a:chExt cx="74520" cy="239040"/>
          </a:xfrm>
        </p:grpSpPr>
        <p:sp>
          <p:nvSpPr>
            <p:cNvPr id="578" name=""/>
            <p:cNvSpPr/>
            <p:nvPr/>
          </p:nvSpPr>
          <p:spPr>
            <a:xfrm>
              <a:off x="1976400" y="3981600"/>
              <a:ext cx="7452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76400" y="41461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erations of the request-reply protoco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16040" y="212724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byte[] doOperation (RemoteObjectRef o, int methodId, byte[] argum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ds a request message to the remote object and returns the repl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arguments specify the remote object, the method to be invoked and the arguments of that metho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byte[] getRequest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cquires a client request via the server 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void sendReply (byte[] reply, InetAddress clientHost, int clientPort);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ds the reply message reply to the client at its Internet address and 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quest-reply message stru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669960" y="1784520"/>
            <a:ext cx="8602560" cy="2950920"/>
            <a:chOff x="669960" y="1784520"/>
            <a:chExt cx="8602560" cy="2950920"/>
          </a:xfrm>
        </p:grpSpPr>
        <p:sp>
          <p:nvSpPr>
            <p:cNvPr id="584" name=""/>
            <p:cNvSpPr/>
            <p:nvPr/>
          </p:nvSpPr>
          <p:spPr>
            <a:xfrm>
              <a:off x="669960" y="1784520"/>
              <a:ext cx="4702320" cy="2950920"/>
            </a:xfrm>
            <a:prstGeom prst="rect">
              <a:avLst/>
            </a:prstGeom>
            <a:noFill/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9960" y="2368440"/>
              <a:ext cx="4670280" cy="18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9960" y="2951280"/>
              <a:ext cx="4670280" cy="144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9960" y="3535200"/>
              <a:ext cx="4670280" cy="18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1640" y="4119480"/>
              <a:ext cx="4670640" cy="18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84960" y="1897200"/>
              <a:ext cx="1800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messageTyp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86040" y="2481120"/>
              <a:ext cx="1230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request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84960" y="3097080"/>
              <a:ext cx="214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objectRefere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84960" y="3648240"/>
              <a:ext cx="1270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method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44360" y="4232160"/>
              <a:ext cx="1378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632560" y="1897200"/>
              <a:ext cx="3639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int   (0=Request, 1= Reply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35800" y="2481120"/>
              <a:ext cx="349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632920" y="3097080"/>
              <a:ext cx="2314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RemoteObjectRe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633640" y="3679920"/>
              <a:ext cx="182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int or Metho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634720" y="4264200"/>
              <a:ext cx="1835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array of byt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PC exchange protocol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444680" y="2308320"/>
            <a:ext cx="7095960" cy="1923480"/>
            <a:chOff x="1444680" y="2308320"/>
            <a:chExt cx="7095960" cy="1923480"/>
          </a:xfrm>
        </p:grpSpPr>
        <p:sp>
          <p:nvSpPr>
            <p:cNvPr id="601" name=""/>
            <p:cNvSpPr/>
            <p:nvPr/>
          </p:nvSpPr>
          <p:spPr>
            <a:xfrm>
              <a:off x="1463400" y="24062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06320" y="24062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11800" y="24062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66240" y="240624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912760" y="2442960"/>
              <a:ext cx="2146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1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8640" y="247464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35040" y="247464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16120" y="24746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07720" y="2474640"/>
              <a:ext cx="23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e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41720" y="2474640"/>
              <a:ext cx="8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20560" y="247464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17400" y="2474640"/>
              <a:ext cx="33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t 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341400" y="247464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44680" y="2308320"/>
              <a:ext cx="127008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714760" y="2308320"/>
              <a:ext cx="1728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32040" y="2308320"/>
              <a:ext cx="58086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18880" y="27316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062520" y="27316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79160" y="27316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74920" y="273168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49240" y="27730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555440" y="27730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651200" y="2773080"/>
              <a:ext cx="8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29680" y="2773080"/>
              <a:ext cx="19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v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22640" y="2773080"/>
              <a:ext cx="8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86080" y="27730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29720" y="27730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6000" y="277308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342120" y="277308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63400" y="314928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918520" y="32144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5600" y="321444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41360" y="32144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q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53760" y="321444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35200" y="3214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44680" y="3046320"/>
              <a:ext cx="127008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714760" y="3046320"/>
              <a:ext cx="1728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32040" y="3046320"/>
              <a:ext cx="151452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46560" y="3046320"/>
              <a:ext cx="1584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62400" y="3046320"/>
              <a:ext cx="15192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781600" y="3046320"/>
              <a:ext cx="1584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97440" y="3046320"/>
              <a:ext cx="27432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63400" y="35114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606320" y="35114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918520" y="35748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045600" y="357480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41360" y="3574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q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53760" y="357480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535200" y="357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48880" y="35114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75960" y="351144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73520" y="351144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836240" y="351144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63400" y="38732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06320" y="38732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743480" y="38732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18520" y="39366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045600" y="393660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141360" y="39366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q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353760" y="393660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535200" y="39366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48880" y="3873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5960" y="387324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73520" y="387324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36240" y="387324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85360" y="3873240"/>
              <a:ext cx="18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165000" y="3873240"/>
              <a:ext cx="19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c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57600" y="38732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70360" y="38732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13280" y="3873240"/>
              <a:ext cx="37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ed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074000" y="3873240"/>
              <a:ext cx="33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e 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403760" y="3873240"/>
              <a:ext cx="26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pl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4680" y="4216320"/>
              <a:ext cx="127008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732040" y="4216320"/>
              <a:ext cx="151452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62400" y="4216320"/>
              <a:ext cx="15192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97440" y="4216320"/>
              <a:ext cx="27432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TTP request messag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44400" y="2597040"/>
            <a:ext cx="8543880" cy="809640"/>
            <a:chOff x="644400" y="2597040"/>
            <a:chExt cx="8543880" cy="809640"/>
          </a:xfrm>
        </p:grpSpPr>
        <p:sp>
          <p:nvSpPr>
            <p:cNvPr id="679" name=""/>
            <p:cNvSpPr/>
            <p:nvPr/>
          </p:nvSpPr>
          <p:spPr>
            <a:xfrm>
              <a:off x="644400" y="2973240"/>
              <a:ext cx="8543880" cy="43344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010960" y="2973240"/>
              <a:ext cx="1440" cy="4096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14680" y="2973240"/>
              <a:ext cx="1080" cy="4096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73400" y="2995560"/>
              <a:ext cx="1440" cy="4111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684920" y="2973240"/>
              <a:ext cx="1080" cy="4096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49760" y="30747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08520" y="3074760"/>
              <a:ext cx="3100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//www.dcs.qmw.ac.uk/index.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38520" y="3074760"/>
              <a:ext cx="980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TTP/ 1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56240" y="2597040"/>
              <a:ext cx="1652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RL or path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89640" y="2597040"/>
              <a:ext cx="67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eth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363280" y="2597040"/>
              <a:ext cx="128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TTP 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82480" y="259704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ead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793280" y="2597040"/>
              <a:ext cx="127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essage bo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TTP reply messag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677880" y="2384280"/>
            <a:ext cx="8542440" cy="979560"/>
            <a:chOff x="677880" y="2384280"/>
            <a:chExt cx="8542440" cy="979560"/>
          </a:xfrm>
        </p:grpSpPr>
        <p:sp>
          <p:nvSpPr>
            <p:cNvPr id="694" name=""/>
            <p:cNvSpPr/>
            <p:nvPr/>
          </p:nvSpPr>
          <p:spPr>
            <a:xfrm>
              <a:off x="677880" y="2792160"/>
              <a:ext cx="8542440" cy="57168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4480" y="2792160"/>
              <a:ext cx="1440" cy="54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48200" y="2792160"/>
              <a:ext cx="1440" cy="54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032520" y="2822400"/>
              <a:ext cx="1440" cy="54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34200" y="2792160"/>
              <a:ext cx="1440" cy="54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912600" y="2925720"/>
              <a:ext cx="130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TTP/1.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619080" y="292572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44040" y="2925720"/>
              <a:ext cx="43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26360" y="2925720"/>
              <a:ext cx="169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33280" y="238428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TTP ver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6560" y="2384280"/>
              <a:ext cx="136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us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22360" y="238428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ea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25400" y="2384280"/>
              <a:ext cx="966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ead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89000" y="2384280"/>
              <a:ext cx="170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essage bo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4.17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ulticast peer joins a group and sends and receives datagra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6160" y="1403280"/>
            <a:ext cx="8303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mport java.net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class MulticastPeer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ublic static void main(String args[]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// args give message contents &amp; destination multicast group (e.g. "228.5.6.7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ulticastSocket s =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netAddress group = InetAddress.getByName(args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 = new MulticastSocket(6789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.joinGroup(grou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yte [] m = args[0].getBytes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atagramPacket messageOu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ew DatagramPacket(m, m.length, group, 6789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.send(messageOut);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// this figure continued on the next s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4.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iddleware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2880" y="1817640"/>
            <a:ext cx="85392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59080" y="1471680"/>
            <a:ext cx="8555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// get messages from other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yte[] buffer = new byte[100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for(int i=0; i&lt; 3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atagramPacket messageIn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new DatagramPacket(buffer, buffer.lengt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.receive(messageI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ystem.out.println("Received:" + new String(messageIn.getData(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.leaveGroup(group);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catch (SocketException e){System.out.println("Socket: " + e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catch (IOException e){System.out.println("IO: " + e.getMessage()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finally {if(s != null) s.close(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4.18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ockets used for datagra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37200" y="2122560"/>
            <a:ext cx="8740080" cy="3029040"/>
            <a:chOff x="637200" y="2122560"/>
            <a:chExt cx="8740080" cy="3029040"/>
          </a:xfrm>
        </p:grpSpPr>
        <p:sp>
          <p:nvSpPr>
            <p:cNvPr id="714" name=""/>
            <p:cNvSpPr/>
            <p:nvPr/>
          </p:nvSpPr>
          <p:spPr>
            <a:xfrm>
              <a:off x="708480" y="4876920"/>
              <a:ext cx="573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ServerAddress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ClientAddress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are socket addr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7200" y="2122560"/>
              <a:ext cx="179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ing a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16120" y="2122560"/>
              <a:ext cx="194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eiving a 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273640" y="2513160"/>
              <a:ext cx="4079880" cy="2152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273640" y="2513160"/>
              <a:ext cx="4103640" cy="217620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48240" y="2662200"/>
              <a:ext cx="3754440" cy="18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48240" y="2662200"/>
              <a:ext cx="3780000" cy="18525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8160" y="2513160"/>
              <a:ext cx="4054680" cy="2152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8160" y="2513160"/>
              <a:ext cx="4079880" cy="217620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3120" y="2662200"/>
              <a:ext cx="3679560" cy="182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3120" y="2662200"/>
              <a:ext cx="3703320" cy="18525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46800" y="3424320"/>
              <a:ext cx="1886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ind(s, ClientAddres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3920" y="3949560"/>
              <a:ext cx="319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endto(s, "message", ServerAddres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48400" y="3424320"/>
              <a:ext cx="19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bind(s, ServerAddres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643720" y="3949560"/>
              <a:ext cx="2913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mount = recvfrom(s, buffer, from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440" y="4014720"/>
              <a:ext cx="299880" cy="174600"/>
            </a:xfrm>
            <a:custGeom>
              <a:avLst/>
              <a:gdLst/>
              <a:ahLst/>
              <a:rect l="l" t="t" r="r" b="b"/>
              <a:pathLst>
                <a:path w="189" h="110">
                  <a:moveTo>
                    <a:pt x="0" y="63"/>
                  </a:moveTo>
                  <a:lnTo>
                    <a:pt x="0" y="0"/>
                  </a:lnTo>
                  <a:lnTo>
                    <a:pt x="189" y="63"/>
                  </a:lnTo>
                  <a:lnTo>
                    <a:pt x="0" y="11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4246200" y="4114800"/>
              <a:ext cx="1001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638320" y="2773440"/>
              <a:ext cx="345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 = socket(AF_INET, SOCK_DGRAM, 0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53640" y="2747880"/>
              <a:ext cx="345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 = socket(AF_INET, SOCK_DGRAM, 0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973080" y="3105000"/>
              <a:ext cx="74520" cy="239760"/>
              <a:chOff x="973080" y="3105000"/>
              <a:chExt cx="74520" cy="239760"/>
            </a:xfrm>
          </p:grpSpPr>
          <p:sp>
            <p:nvSpPr>
              <p:cNvPr id="734" name=""/>
              <p:cNvSpPr/>
              <p:nvPr/>
            </p:nvSpPr>
            <p:spPr>
              <a:xfrm>
                <a:off x="973080" y="310500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973080" y="326988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973080" y="3701880"/>
              <a:ext cx="74520" cy="239760"/>
              <a:chOff x="973080" y="3701880"/>
              <a:chExt cx="74520" cy="239760"/>
            </a:xfrm>
          </p:grpSpPr>
          <p:sp>
            <p:nvSpPr>
              <p:cNvPr id="737" name=""/>
              <p:cNvSpPr/>
              <p:nvPr/>
            </p:nvSpPr>
            <p:spPr>
              <a:xfrm>
                <a:off x="973080" y="370188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973080" y="386676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59560" y="3079800"/>
              <a:ext cx="74520" cy="239760"/>
              <a:chOff x="5659560" y="3079800"/>
              <a:chExt cx="74520" cy="239760"/>
            </a:xfrm>
          </p:grpSpPr>
          <p:sp>
            <p:nvSpPr>
              <p:cNvPr id="740" name=""/>
              <p:cNvSpPr/>
              <p:nvPr/>
            </p:nvSpPr>
            <p:spPr>
              <a:xfrm>
                <a:off x="5659560" y="307980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659560" y="324468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659560" y="3676680"/>
              <a:ext cx="74520" cy="239760"/>
              <a:chOff x="5659560" y="3676680"/>
              <a:chExt cx="74520" cy="239760"/>
            </a:xfrm>
          </p:grpSpPr>
          <p:sp>
            <p:nvSpPr>
              <p:cNvPr id="743" name=""/>
              <p:cNvSpPr/>
              <p:nvPr/>
            </p:nvSpPr>
            <p:spPr>
              <a:xfrm>
                <a:off x="5659560" y="3676680"/>
                <a:ext cx="7452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659560" y="3841560"/>
                <a:ext cx="74520" cy="74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1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ckets used for stream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33520" y="4906800"/>
            <a:ext cx="862164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7000" y="2021040"/>
            <a:ext cx="223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ing a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011200" y="2021040"/>
            <a:ext cx="334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ing and accepting a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943520" y="2381400"/>
            <a:ext cx="4162320" cy="2253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43520" y="2381400"/>
            <a:ext cx="4186080" cy="227808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092560" y="2603520"/>
            <a:ext cx="3864240" cy="18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92560" y="2603520"/>
            <a:ext cx="3889440" cy="1857240"/>
          </a:xfrm>
          <a:prstGeom prst="rect">
            <a:avLst/>
          </a:prstGeom>
          <a:noFill/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78040" y="3160800"/>
            <a:ext cx="2013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ind(s, ServerAddress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79840" y="3359160"/>
            <a:ext cx="88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isten(s,5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376960" y="3754440"/>
            <a:ext cx="283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New = accept(s, ClientAddress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376240" y="4176720"/>
            <a:ext cx="265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n = read(sNew, buffer, amoun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8040" y="2381400"/>
            <a:ext cx="4062240" cy="2253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8040" y="2381400"/>
            <a:ext cx="4087800" cy="227808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06400" y="2603520"/>
            <a:ext cx="3691080" cy="18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06400" y="2603520"/>
            <a:ext cx="3716280" cy="1857240"/>
          </a:xfrm>
          <a:prstGeom prst="rect">
            <a:avLst/>
          </a:prstGeom>
          <a:noFill/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14400" y="2789280"/>
            <a:ext cx="348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 = socket(AF_INET, SOCK_STREAM,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11520" y="3457440"/>
            <a:ext cx="226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nnect(s, ServerAddres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13320" y="4127400"/>
            <a:ext cx="227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rite(s, "message", length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116680" y="4189320"/>
            <a:ext cx="223560" cy="123840"/>
          </a:xfrm>
          <a:custGeom>
            <a:avLst/>
            <a:gdLst/>
            <a:ahLst/>
            <a:rect l="l" t="t" r="r" b="b"/>
            <a:pathLst>
              <a:path w="141" h="78">
                <a:moveTo>
                  <a:pt x="0" y="47"/>
                </a:moveTo>
                <a:lnTo>
                  <a:pt x="0" y="0"/>
                </a:lnTo>
                <a:lnTo>
                  <a:pt x="141" y="47"/>
                </a:lnTo>
                <a:lnTo>
                  <a:pt x="0" y="7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3406680" y="4264200"/>
            <a:ext cx="171000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379840" y="2763720"/>
            <a:ext cx="348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 = socket(AF_INET, SOCK_STREAM,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08480" y="5003640"/>
            <a:ext cx="573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rverAddres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lientAddres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re socket 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405400" y="36259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405400" y="30416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934920" y="3156120"/>
            <a:ext cx="74520" cy="239040"/>
            <a:chOff x="934920" y="3156120"/>
            <a:chExt cx="74520" cy="239040"/>
          </a:xfrm>
        </p:grpSpPr>
        <p:sp>
          <p:nvSpPr>
            <p:cNvPr id="771" name=""/>
            <p:cNvSpPr/>
            <p:nvPr/>
          </p:nvSpPr>
          <p:spPr>
            <a:xfrm>
              <a:off x="934920" y="3156120"/>
              <a:ext cx="7452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34920" y="33206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934920" y="3841920"/>
            <a:ext cx="74520" cy="239040"/>
            <a:chOff x="934920" y="3841920"/>
            <a:chExt cx="74520" cy="239040"/>
          </a:xfrm>
        </p:grpSpPr>
        <p:sp>
          <p:nvSpPr>
            <p:cNvPr id="774" name=""/>
            <p:cNvSpPr/>
            <p:nvPr/>
          </p:nvSpPr>
          <p:spPr>
            <a:xfrm>
              <a:off x="934920" y="3841920"/>
              <a:ext cx="7452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934920" y="40064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5405400" y="4083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ckets and por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55840" y="2536920"/>
            <a:ext cx="8662320" cy="2397960"/>
            <a:chOff x="555840" y="2536920"/>
            <a:chExt cx="8662320" cy="2397960"/>
          </a:xfrm>
        </p:grpSpPr>
        <p:sp>
          <p:nvSpPr>
            <p:cNvPr id="91" name=""/>
            <p:cNvSpPr/>
            <p:nvPr/>
          </p:nvSpPr>
          <p:spPr>
            <a:xfrm>
              <a:off x="900000" y="2536920"/>
              <a:ext cx="2287800" cy="2017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00000" y="2536920"/>
              <a:ext cx="2314800" cy="2044440"/>
            </a:xfrm>
            <a:prstGeom prst="rect">
              <a:avLst/>
            </a:pr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43000" y="2859120"/>
              <a:ext cx="1803240" cy="1346040"/>
            </a:xfrm>
            <a:prstGeom prst="ellipse">
              <a:avLst/>
            </a:prstGeom>
            <a:solidFill>
              <a:srgbClr val="ffffff"/>
            </a:solidFill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41760" y="3570120"/>
              <a:ext cx="878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38200" y="2817720"/>
              <a:ext cx="1105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greed po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26080" y="2536920"/>
              <a:ext cx="2287800" cy="20174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26080" y="2536920"/>
              <a:ext cx="2314800" cy="2044440"/>
            </a:xfrm>
            <a:prstGeom prst="rect">
              <a:avLst/>
            </a:prstGeom>
            <a:noFill/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67640" y="2859120"/>
              <a:ext cx="1803240" cy="1346040"/>
            </a:xfrm>
            <a:prstGeom prst="ellipse">
              <a:avLst/>
            </a:prstGeom>
            <a:solidFill>
              <a:srgbClr val="ffffff"/>
            </a:solidFill>
            <a:ln w="396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54600" y="2886120"/>
              <a:ext cx="2692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1"/>
                  </a:moveTo>
                  <a:arcTo wR="10800" hR="10800" stAng="-5441165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1"/>
                  </a:moveTo>
                  <a:arcTo wR="10800" hR="10800" stAng="-5441165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54600" y="2886120"/>
              <a:ext cx="2692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0800" y="2913120"/>
              <a:ext cx="1440" cy="216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56040" y="4151160"/>
              <a:ext cx="26640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3" y="1"/>
                  </a:moveTo>
                  <a:arcTo wR="10800" hR="10800" stAng="-5440442" swAng="5399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3" y="1"/>
                  </a:moveTo>
                  <a:arcTo wR="10800" hR="10800" stAng="-5440442" swAng="539902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54960" y="4151880"/>
              <a:ext cx="2689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70"/>
                  </a:moveTo>
                  <a:arcTo wR="10800" hR="10800" stAng="-41417" swAng="5482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70"/>
                  </a:moveTo>
                  <a:arcTo wR="10800" hR="10800" stAng="-41417" swAng="5482833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60800" y="4178160"/>
              <a:ext cx="1440" cy="2145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65880" y="2968560"/>
              <a:ext cx="266040" cy="26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3"/>
                  </a:moveTo>
                  <a:arcTo wR="10800" hR="10800" stAng="-10759557" swAng="5319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3"/>
                  </a:moveTo>
                  <a:arcTo wR="10800" hR="10800" stAng="-10759557" swAng="5319116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64440" y="2968560"/>
              <a:ext cx="26892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0" y="21599"/>
                  </a:moveTo>
                  <a:arcTo wR="10800" hR="10800" stAng="5441417" swAng="53990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0" y="21599"/>
                  </a:moveTo>
                  <a:arcTo wR="10800" hR="10800" stAng="5441417" swAng="5399026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26080" y="2994120"/>
              <a:ext cx="1800" cy="2142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64440" y="3854520"/>
              <a:ext cx="26892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64440" y="3854880"/>
              <a:ext cx="2689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21599"/>
                  </a:moveTo>
                  <a:arcTo wR="10800" hR="10800" stAng="5441165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21599"/>
                  </a:moveTo>
                  <a:arcTo wR="10800" hR="10800" stAng="5441165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26080" y="3881520"/>
              <a:ext cx="1800" cy="215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56040" y="2536920"/>
              <a:ext cx="26640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3" y="1"/>
                  </a:moveTo>
                  <a:arcTo wR="10800" hR="10800" stAng="-5440442" swAng="5399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3" y="1"/>
                  </a:moveTo>
                  <a:arcTo wR="10800" hR="10800" stAng="-5440442" swAng="539902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54960" y="2537280"/>
              <a:ext cx="2689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70"/>
                  </a:moveTo>
                  <a:arcTo wR="10800" hR="10800" stAng="-41417" swAng="5482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70"/>
                  </a:moveTo>
                  <a:arcTo wR="10800" hR="10800" stAng="-41417" swAng="5482833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60800" y="2563920"/>
              <a:ext cx="1440" cy="2142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54600" y="3800520"/>
              <a:ext cx="2692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1"/>
                  </a:moveTo>
                  <a:arcTo wR="10800" hR="10800" stAng="-5441165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1"/>
                  </a:moveTo>
                  <a:arcTo wR="10800" hR="10800" stAng="-5441165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600" y="3800520"/>
              <a:ext cx="2692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60800" y="3827520"/>
              <a:ext cx="1440" cy="216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64440" y="2616120"/>
              <a:ext cx="26892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64440" y="2616120"/>
              <a:ext cx="26892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21599"/>
                  </a:moveTo>
                  <a:arcTo wR="10800" hR="10800" stAng="5441165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21599"/>
                  </a:moveTo>
                  <a:arcTo wR="10800" hR="10800" stAng="5441165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26080" y="2643120"/>
              <a:ext cx="1800" cy="243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65880" y="4179960"/>
              <a:ext cx="2660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3"/>
                  </a:moveTo>
                  <a:arcTo wR="10800" hR="10800" stAng="-10759557" swAng="5319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3"/>
                  </a:moveTo>
                  <a:arcTo wR="10800" hR="10800" stAng="-10759557" swAng="5319116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64440" y="4179960"/>
              <a:ext cx="26892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0" y="21599"/>
                  </a:moveTo>
                  <a:arcTo wR="10800" hR="10800" stAng="5441417" swAng="53990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0" y="21599"/>
                  </a:moveTo>
                  <a:arcTo wR="10800" hR="10800" stAng="5441417" swAng="5399026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26080" y="4205160"/>
              <a:ext cx="1800" cy="2145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90080" y="2925720"/>
              <a:ext cx="78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ny po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268800" y="3048120"/>
              <a:ext cx="431640" cy="3492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5853240" y="3020760"/>
              <a:ext cx="565200" cy="3762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936440" y="3282840"/>
              <a:ext cx="525240" cy="1684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199280" y="3180960"/>
              <a:ext cx="403200" cy="297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43640" y="3032280"/>
              <a:ext cx="62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ock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1120" y="3032280"/>
              <a:ext cx="62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ock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29280" y="4675320"/>
              <a:ext cx="318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ternet address = 138.37.88.2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5840" y="4675320"/>
              <a:ext cx="318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ternet address = 138.37.94.24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47800" y="4243320"/>
              <a:ext cx="103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 por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3376080" y="3935520"/>
              <a:ext cx="862200" cy="296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3349440" y="4286160"/>
              <a:ext cx="968040" cy="525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610240" y="4285800"/>
              <a:ext cx="727200" cy="255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610240" y="3962160"/>
              <a:ext cx="808200" cy="215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86680" y="3894120"/>
              <a:ext cx="50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33920" y="392112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89040" y="3478320"/>
              <a:ext cx="241560" cy="188640"/>
            </a:xfrm>
            <a:custGeom>
              <a:avLst/>
              <a:gdLst/>
              <a:ahLst/>
              <a:rect l="l" t="t" r="r" b="b"/>
              <a:pathLst>
                <a:path w="152" h="119">
                  <a:moveTo>
                    <a:pt x="0" y="0"/>
                  </a:moveTo>
                  <a:lnTo>
                    <a:pt x="17" y="85"/>
                  </a:lnTo>
                  <a:lnTo>
                    <a:pt x="67" y="119"/>
                  </a:lnTo>
                  <a:lnTo>
                    <a:pt x="135" y="85"/>
                  </a:lnTo>
                  <a:lnTo>
                    <a:pt x="1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c99"/>
            </a:solidFill>
            <a:ln w="3960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9040" y="3289320"/>
              <a:ext cx="268560" cy="404640"/>
            </a:xfrm>
            <a:custGeom>
              <a:avLst/>
              <a:gdLst>
                <a:gd name="textAreaLeft" fmla="*/ 33480 w 268560"/>
                <a:gd name="textAreaRight" fmla="*/ 235080 w 268560"/>
                <a:gd name="textAreaTop" fmla="*/ 33480 h 404640"/>
                <a:gd name="textAreaBottom" fmla="*/ 371160 h 404640"/>
              </a:gdLst>
              <a:ahLst/>
              <a:rect l="textAreaLeft" t="textAreaTop" r="textAreaRight" b="textAreaBottom"/>
              <a:pathLst>
                <a:path w="21600" h="32530">
                  <a:moveTo>
                    <a:pt x="9202" y="0"/>
                  </a:moveTo>
                  <a:arcTo wR="9202" hR="9202" stAng="16200000" swAng="-5400000"/>
                  <a:lnTo>
                    <a:pt x="0" y="23328"/>
                  </a:lnTo>
                  <a:arcTo wR="9202" hR="9202" stAng="10800000" swAng="-5400000"/>
                  <a:lnTo>
                    <a:pt x="12398" y="32530"/>
                  </a:lnTo>
                  <a:arcTo wR="9202" hR="9202" stAng="5400000" swAng="-5400000"/>
                  <a:lnTo>
                    <a:pt x="21600" y="9202"/>
                  </a:lnTo>
                  <a:arcTo wR="9202" hR="9202" stAng="0" swAng="-5400000"/>
                  <a:close/>
                </a:path>
              </a:pathLst>
            </a:cu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89040" y="3478320"/>
              <a:ext cx="24156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56280" y="3478320"/>
              <a:ext cx="243000" cy="188640"/>
            </a:xfrm>
            <a:custGeom>
              <a:avLst/>
              <a:gdLst/>
              <a:ahLst/>
              <a:rect l="l" t="t" r="r" b="b"/>
              <a:pathLst>
                <a:path w="153" h="119">
                  <a:moveTo>
                    <a:pt x="0" y="0"/>
                  </a:moveTo>
                  <a:lnTo>
                    <a:pt x="17" y="85"/>
                  </a:lnTo>
                  <a:lnTo>
                    <a:pt x="68" y="119"/>
                  </a:lnTo>
                  <a:lnTo>
                    <a:pt x="136" y="85"/>
                  </a:lnTo>
                  <a:lnTo>
                    <a:pt x="15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c99"/>
            </a:solidFill>
            <a:ln w="3960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56280" y="3289320"/>
              <a:ext cx="268560" cy="404640"/>
            </a:xfrm>
            <a:custGeom>
              <a:avLst/>
              <a:gdLst>
                <a:gd name="textAreaLeft" fmla="*/ 33480 w 268560"/>
                <a:gd name="textAreaRight" fmla="*/ 235080 w 268560"/>
                <a:gd name="textAreaTop" fmla="*/ 33480 h 404640"/>
                <a:gd name="textAreaBottom" fmla="*/ 371160 h 404640"/>
              </a:gdLst>
              <a:ahLst/>
              <a:rect l="textAreaLeft" t="textAreaTop" r="textAreaRight" b="textAreaBottom"/>
              <a:pathLst>
                <a:path w="21600" h="32530">
                  <a:moveTo>
                    <a:pt x="9202" y="0"/>
                  </a:moveTo>
                  <a:arcTo wR="9202" hR="9202" stAng="16200000" swAng="-5400000"/>
                  <a:lnTo>
                    <a:pt x="0" y="23328"/>
                  </a:lnTo>
                  <a:arcTo wR="9202" hR="9202" stAng="10800000" swAng="-5400000"/>
                  <a:lnTo>
                    <a:pt x="12398" y="32530"/>
                  </a:lnTo>
                  <a:arcTo wR="9202" hR="9202" stAng="5400000" swAng="-5400000"/>
                  <a:lnTo>
                    <a:pt x="21600" y="9202"/>
                  </a:lnTo>
                  <a:arcTo wR="9202" hR="9202" stAng="0" swAng="-5400000"/>
                  <a:close/>
                </a:path>
              </a:pathLst>
            </a:cu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56280" y="3478320"/>
              <a:ext cx="24300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4600" y="3370320"/>
              <a:ext cx="26928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1"/>
                  </a:moveTo>
                  <a:arcTo wR="10800" hR="10800" stAng="-5441165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1"/>
                  </a:moveTo>
                  <a:arcTo wR="10800" hR="10800" stAng="-5441165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54600" y="3370680"/>
              <a:ext cx="26928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4116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4116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87800" y="3397320"/>
              <a:ext cx="1440" cy="242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91440" y="3370320"/>
              <a:ext cx="268920" cy="26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91440" y="3370680"/>
              <a:ext cx="2689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1" y="21599"/>
                  </a:moveTo>
                  <a:arcTo wR="10800" hR="10800" stAng="5441165" swAng="53588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1" y="21599"/>
                  </a:moveTo>
                  <a:arcTo wR="10800" hR="10800" stAng="5441165" swAng="5358835"/>
                </a:path>
              </a:pathLst>
            </a:custGeom>
            <a:solidFill>
              <a:srgbClr val="ffffff"/>
            </a:solidFill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26080" y="3397320"/>
              <a:ext cx="1800" cy="216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02440" y="3451320"/>
              <a:ext cx="216000" cy="10800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0" y="34"/>
                  </a:moveTo>
                  <a:lnTo>
                    <a:pt x="0" y="0"/>
                  </a:lnTo>
                  <a:lnTo>
                    <a:pt x="136" y="34"/>
                  </a:lnTo>
                  <a:lnTo>
                    <a:pt x="0" y="68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322440" y="3505320"/>
              <a:ext cx="287964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3240" y="3451320"/>
              <a:ext cx="241560" cy="135000"/>
            </a:xfrm>
            <a:custGeom>
              <a:avLst/>
              <a:gdLst/>
              <a:ahLst/>
              <a:rect l="l" t="t" r="r" b="b"/>
              <a:pathLst>
                <a:path w="152" h="85">
                  <a:moveTo>
                    <a:pt x="0" y="51"/>
                  </a:moveTo>
                  <a:lnTo>
                    <a:pt x="0" y="0"/>
                  </a:lnTo>
                  <a:lnTo>
                    <a:pt x="152" y="17"/>
                  </a:lnTo>
                  <a:lnTo>
                    <a:pt x="17" y="8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649600" y="3532320"/>
              <a:ext cx="323640" cy="54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67640" y="3451320"/>
              <a:ext cx="242640" cy="162000"/>
            </a:xfrm>
            <a:custGeom>
              <a:avLst/>
              <a:gdLst/>
              <a:ahLst/>
              <a:rect l="l" t="t" r="r" b="b"/>
              <a:pathLst>
                <a:path w="153" h="102">
                  <a:moveTo>
                    <a:pt x="0" y="51"/>
                  </a:moveTo>
                  <a:lnTo>
                    <a:pt x="0" y="0"/>
                  </a:lnTo>
                  <a:lnTo>
                    <a:pt x="153" y="68"/>
                  </a:lnTo>
                  <a:lnTo>
                    <a:pt x="0" y="102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6472080" y="3478320"/>
              <a:ext cx="268560" cy="54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DP client sends a message to the server and gets a repl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4480" y="1353960"/>
            <a:ext cx="942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class UDPClient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static void main(String args[]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args give message contents and server host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Socket aSocke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 = new DatagramSocket()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yte [] m = args[0].getByte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etAddress aHost = InetAddress.getByName(args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t serverPort = 6789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Packet request = new DatagramPacket(m,  args[0].length(), aHost, server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.send(request)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yte[] buffer = new byte[100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Packet reply = new DatagramPacket(buffer, buffer.length)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.receive(repl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ystem.out.println("Reply: " + new String(reply.getData()))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catch (SocketException e){System.out.println("Socket: " + e.getMessag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catch (IOException e){System.out.println("IO: " + e.getMessage()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finally {if(aSocket != null) aSocket.close(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DP server repeatedly receives a request and sends it back to the clien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6640" y="1374840"/>
            <a:ext cx="80859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class UDPServer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static void main(String args[]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Socket aSocke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 = new DatagramSocket(6789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byte[] buffer = new byte[100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while(true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Packet request = new DatagramPacket(buffer, buffer.lengt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.receive(request);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gramPacket reply = new DatagramPacket(request.getData(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request.getLength(), request.getAddress(), request.getPort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aSocket.send(repl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catch (SocketException e){System.out.println("Socket: " + e.getMessag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catch (IOException e) {System.out.println("IO: " + e.getMessage()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finally {if(aSocket != null) aSocket.close(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TCP client makes connection to server, sends request and receives repl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349280"/>
            <a:ext cx="86025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import java.net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public class TCPClien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public static void main (String args[]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/ arguments supply message and hostname of 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ocket s = nu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int serverPort = 789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 = new Socket(args[1], serverPort)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DataInputStream in = new DataInputStream( s.getInputStream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DataOutputStream out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new DataOutputStream( s.getOutputStream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out.writeUTF(args[0]);    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// UTF is a string encoding see Sn 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tring data = in.readUTF();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ystem.out.println("Received: "+ data) ;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catch (UnknownHostException e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System.out.println("Sock:"+e.getMessage()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catch (EOFException e){System.out.println("EOF:"+e.getMessage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catch (IOException e){System.out.println("IO:"+e.getMessage())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finally {if(s!=null) try {s.close();}catch (IOException e){System.out.println("close:"+e.getMessage());}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6 TCP server makes a connection for each client and then echoes the client’s  reques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1920" y="1359000"/>
            <a:ext cx="7016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class TCPServ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static void main (String args[]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t serverPort = 7896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erverSocket listenSocket = new ServerSocket(server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while(tr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ocket clientSocket = listenSocket.accep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onnection c = new Connection(clientSock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catch(IOException e) {System.out.println("Listen :"+e.getMessage()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// this figure continues on the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6 continue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72880" y="1292400"/>
            <a:ext cx="77094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lass Connection extends Thread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InputStream 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ataOutputStream 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ocket clientSock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Connection (Socket aClientSocket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clientSocket = aClientSock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in = new DataInputStream( clientSocket.getInputStream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out =new DataOutputStream( clientSocket.getOutputStream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his.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catch(IOException e)  {System.out.println("Connection:"+e.getMessage()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ublic void run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ry {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             // an echo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String data = in.readUTF();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out.writeUTF(dat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catch(EOFException e) {System.out.println("EOF:"+e.getMessag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catch(IOException e) {System.out.println("IO:"+e.getMessage()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 finally{ try {clientSocket.close();}catch (IOException e){/*close failed*/}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4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RBA CDR for constructed typ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392120" y="1544760"/>
            <a:ext cx="7007400" cy="2349360"/>
            <a:chOff x="1392120" y="1544760"/>
            <a:chExt cx="7007400" cy="2349360"/>
          </a:xfrm>
        </p:grpSpPr>
        <p:sp>
          <p:nvSpPr>
            <p:cNvPr id="169" name=""/>
            <p:cNvSpPr/>
            <p:nvPr/>
          </p:nvSpPr>
          <p:spPr>
            <a:xfrm>
              <a:off x="1407960" y="1638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19200" y="16383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5960" y="1638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06400" y="16383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03560" y="163836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10920" y="1638360"/>
              <a:ext cx="1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90920" y="16383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78040" y="16383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4360" y="16383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41120" y="1638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43360" y="163836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92400" y="16383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51440" y="16383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02920" y="1638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4800" y="1638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92120" y="1544760"/>
              <a:ext cx="16956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87720" y="1544760"/>
              <a:ext cx="14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02120" y="1544760"/>
              <a:ext cx="5297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07960" y="19335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84280" y="1933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710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2920" y="19335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5688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59120" y="193356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03560" y="1933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57560" y="1933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4900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458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46280" y="193356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97120" y="1933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0040" y="1933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1268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1420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11760" y="19335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460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4288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44760" y="19335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27640" y="1933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81640" y="1933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3312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3500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318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34440" y="193356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44960" y="193356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15240" y="1933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20720" y="193356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67320" y="193356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984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996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97520" y="1933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50440" y="19335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91200" y="1933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83720" y="193356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32400" y="1933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4560" y="193356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73600" y="193356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51720" y="1933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03920" y="1933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57920" y="19335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0660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04160" y="1933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71840" y="1933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69040" y="1933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59760" y="1933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92120" y="1838160"/>
              <a:ext cx="16956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87720" y="1838160"/>
              <a:ext cx="144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02120" y="1838160"/>
              <a:ext cx="529740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07960" y="22129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84280" y="2212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38280" y="22129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7256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6940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03560" y="2212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57560" y="22129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4900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4584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46280" y="221292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97120" y="2212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50040" y="22129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1268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1420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11760" y="22129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4604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4288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44760" y="22129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27640" y="2212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81640" y="2212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3312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3500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3184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34440" y="221292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44960" y="221292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15240" y="2212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20720" y="2212920"/>
              <a:ext cx="24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67320" y="221292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9844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9996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97520" y="2212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49720" y="22129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34040" y="22129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26560" y="221292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75240" y="22129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67760" y="22129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07440" y="221292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00760" y="2212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54400" y="221292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06040" y="22129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6868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70920" y="22129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56600" y="22129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4640" y="2212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72520" y="22129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40560" y="22129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14440" y="22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17400" y="221292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3880" y="2212920"/>
              <a:ext cx="1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03560" y="249228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77440" y="2492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79680" y="2492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26840" y="2492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28720" y="24922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13400" y="24922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52360" y="2492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92400" y="24922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51080" y="24922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35400" y="2492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87600" y="24922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71920" y="24922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64440" y="249228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13120" y="24922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05640" y="2492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45680" y="249228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0760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9480" y="277164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80760" y="2771640"/>
              <a:ext cx="1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040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0356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91760" y="2771640"/>
              <a:ext cx="135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25680" y="277164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5752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50040" y="2771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91160" y="277164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4488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3164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33880" y="2771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86440" y="27716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6968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67240" y="27716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1908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16640" y="2771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84680" y="27716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70080" y="2771640"/>
              <a:ext cx="1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 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5080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48360" y="2771640"/>
              <a:ext cx="20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56080" y="27716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3968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41920" y="2771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94120" y="2771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 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2056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1812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10640" y="2771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50320" y="2771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18720" y="2771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7320" y="27716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09320" y="277164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70320" y="2771640"/>
              <a:ext cx="1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48520" y="277164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84960" y="2771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42560" y="277164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444080" y="27716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28040" y="2771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89960" y="2771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4792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45480" y="2771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36920" y="2771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34480" y="2771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7960" y="3051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84280" y="3051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37920" y="3051000"/>
              <a:ext cx="18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r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17920" y="3051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03560" y="3051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57560" y="3051000"/>
              <a:ext cx="20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 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65640" y="305100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97120" y="30510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65240" y="30510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49560" y="305100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67360" y="30510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30720" y="30510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82920" y="30510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67240" y="305100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59760" y="3051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99080" y="30510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67480" y="3051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06800" y="3051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63320" y="3051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0520" y="30510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3600" y="305100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24480" y="3051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81360" y="30510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65680" y="30510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60000" y="30510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02560" y="30510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98480" y="3051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00000" y="3051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00800" y="305100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89000" y="3051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88720" y="30510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42720" y="305100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504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3576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3116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2320" y="33307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7524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64160" y="33307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3760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984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9456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8348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4892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4576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46920" y="3330720"/>
              <a:ext cx="7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2324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7760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444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7956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6308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61360" y="3330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1536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6648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6800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63400" y="333072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14960" y="33307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8048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3484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34200" y="333072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7136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7180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6324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73320" y="33307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03000" y="333072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15400" y="333072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70200" y="333072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54440" y="33307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8628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7304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29560" y="33307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50440" y="33307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37640" y="333072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8092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84960" y="3330720"/>
              <a:ext cx="20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 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86920" y="33307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75920" y="3330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2236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24960" y="33307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88680" y="33307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176240" y="333072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46880" y="33307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69720" y="3330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79080" y="333072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78520" y="33307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62040" y="33307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63200" y="33307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4864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09840" y="361008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956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9604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47120" y="3610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0292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9976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05960" y="3610080"/>
              <a:ext cx="14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95960" y="3610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82080" y="36100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9340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97800" y="3610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52160" y="3610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0616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03360" y="3610080"/>
              <a:ext cx="23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35560" y="361008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79640" y="36100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4440" y="3610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84120" y="361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87080" y="36100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 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58080" y="3610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46360" y="36100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89920" y="3610080"/>
              <a:ext cx="23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62440" y="3610080"/>
              <a:ext cx="30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65560" y="36100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08760" y="36100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64720" y="361008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92120" y="3878280"/>
              <a:ext cx="16956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87720" y="3808440"/>
              <a:ext cx="14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02120" y="3878280"/>
              <a:ext cx="52974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1-08-24T11:29:55Z</dcterms:modified>
  <cp:revision>63</cp:revision>
  <dc:subject/>
  <dc:title>Figure 15.1 A distributed multimedia system</dc:title>
</cp:coreProperties>
</file>